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269A1-3A89-411A-B0CA-28766FAB3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DABC1-D3FC-44D7-899C-D13CFCA16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05B9C-5719-4E5E-954C-FFEAD2C1E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39119-2487-4F1E-A7A1-479E95C6E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009EB-9242-4EDA-BC51-4D87D2903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EA9BC-2CAA-494C-ABCC-9F4C6F09D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292A0-D400-4BB6-BF6D-AA0A4DC42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1B540-B5EF-4FC4-8917-191ECFBAD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4F350-4FD8-4CF2-912E-C2377F65D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729F6-CCFD-4C91-873F-3C8F6F3AA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436E3-5276-4099-91F5-212A8C98D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320DA-20C1-44B8-B379-F58DE4A95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23CC4-703F-4127-B9D7-3D4648FBC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D1D75-855A-4B7B-B093-D6DCD9C36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ABF55-365C-4FE9-905A-D5DBDA483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37BA8-E049-4F4D-9A30-524517ABC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7C95B-8EF9-4FA5-9DBA-01423BFD5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41967-D7A2-4CA4-B647-63DD75EB1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3A9FD-28FF-4E72-9A2D-C0AD4AC54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07014-7E3E-4465-ACF7-249D556AF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B058F-A3F4-4A17-A478-C565499E0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E73E5-0554-4E36-BA78-DE1FD71B5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80C8F-BE24-4FFA-A50F-49BF68989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20747-41AE-40B2-B66F-F1BAC2CD1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prstGeom prst="pie">
              <a:avLst/>
            </a:pr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6712F-3B5F-4660-8919-FC4EDF45DED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prstGeom prst="pie">
              <a:avLst/>
            </a:pr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43547-BB94-4A78-B9F3-22F07D88FF5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hyperlink" Target="http://images.google.com/imgres?imgurl=http://freedesktop.org/software/IncomingClipart/apple.png&amp;imgrefurl=http://freedesktop.org/software/IncomingClipart/&amp;h=842&amp;w=595&amp;sz=18&amp;tbnid=nVH-VmYQ7PUJ:&amp;tbnh=143&amp;tbnw=101&amp;hl=en&amp;start=26&amp;prev=/images%3Fq%3Dapple%26start%3D20%26svnum%3D10%26hl%3Den%26lr%3D%26sa%3DN" TargetMode="External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Universal Gravitation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Nature and Nature's laws </a:t>
            </a:r>
            <a:br>
              <a:rPr sz="2400"/>
            </a:b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lay hid in night; </a:t>
            </a:r>
            <a:br>
              <a:rPr sz="2400"/>
            </a:b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God said, Let Newton be! </a:t>
            </a:r>
            <a:br>
              <a:rPr sz="2400"/>
            </a:b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nd all was ligh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- Alexander Po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Kepler’s Three Laws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Law: Path of planets are elliptica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anet sweeps out equal area in a given tim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T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= k for objects orbiting a common cent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Picture 7" descr="keplaw"/>
          <p:cNvPicPr/>
          <p:nvPr/>
        </p:nvPicPr>
        <p:blipFill>
          <a:blip r:embed="rId1"/>
          <a:stretch/>
        </p:blipFill>
        <p:spPr>
          <a:xfrm>
            <a:off x="4952880" y="1066680"/>
            <a:ext cx="36576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Sir Isaac Newton</a:t>
            </a:r>
            <a:br>
              <a:rPr sz="4000"/>
            </a:b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(1642-1727)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1" name="Rectangle 6"/>
          <p:cNvSpPr/>
          <p:nvPr/>
        </p:nvSpPr>
        <p:spPr>
          <a:xfrm>
            <a:off x="762120" y="2362320"/>
            <a:ext cx="35812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If I have been able to see further, it was only because I stood on the shoulders of giants.</a:t>
            </a:r>
            <a:br>
              <a:rPr sz="2800"/>
            </a:b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   -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etter to Robert Hook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8" descr="newton"/>
          <p:cNvPicPr/>
          <p:nvPr/>
        </p:nvPicPr>
        <p:blipFill>
          <a:blip r:embed="rId1"/>
          <a:stretch/>
        </p:blipFill>
        <p:spPr>
          <a:xfrm>
            <a:off x="4800600" y="1905120"/>
            <a:ext cx="373212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Sir Isaac Newton</a:t>
            </a:r>
            <a:br>
              <a:rPr sz="4000"/>
            </a:b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(1642-1727)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34" name="Picture 4" descr="newton"/>
          <p:cNvPicPr/>
          <p:nvPr/>
        </p:nvPicPr>
        <p:blipFill>
          <a:blip r:embed="rId1"/>
          <a:stretch/>
        </p:blipFill>
        <p:spPr>
          <a:xfrm>
            <a:off x="5638680" y="2438280"/>
            <a:ext cx="2667240" cy="28861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6" descr="appl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733920" y="2133720"/>
            <a:ext cx="685800" cy="91440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8"/>
          <p:cNvSpPr/>
          <p:nvPr/>
        </p:nvSpPr>
        <p:spPr>
          <a:xfrm>
            <a:off x="685800" y="1981080"/>
            <a:ext cx="4419720" cy="20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fact orbits are constant must be due to a force keeping planets in orbi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same force that makes an apple fall to the ground, could be acting on planets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-6.93642E-007 C 0.01025 0.05341 0.02049 0.10682 0.02848 0.20093 C 0.03647 0.29503 0.04063 0.56994 0.04758 0.56439 C 0.05452 0.55885 0.06233 0.16786 0.0698 0.16717 C 0.07726 0.16648 0.08438 0.52624 0.09202 0.56023 C 0.09966 0.59399 0.10574 0.37018 0.11581 0.36994 C 0.12588 0.36971 0.13924 0.54405 0.15226 0.55815 C 0.16528 0.57226 0.18091 0.4548 0.19358 0.45457 C 0.20626 0.45434 0.21772 0.5459 0.22848 0.55584 C 0.23924 0.56624 0.24758 0.51676 0.25869 0.51584 C 0.2698 0.51468 0.28907 0.54405 0.29515 0.5496 E">
                                      <p:cBhvr>
                                        <p:cTn id="117" dur="2000" fill="hold"/>
                                        <p:tgtEl>
                                          <p:spTgt spid="1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19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1" dur="250" autoRev="1" fill="hold"/>
                                        <p:tgtEl>
                                          <p:spTgt spid="13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2500"/>
                            </p:stCondLst>
                            <p:childTnLst>
                              <p:par>
                                <p:cTn id="1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Bibliography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www.astromax.org/astrocourse/history.ht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wps.prenhall.com/esm_chaisson_astronomytoday_5/0,9185,1383966-content,00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ww.nos.noaa.gov/.../ geodesy/geo02_histr.html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www-groups.dcs.st-and.ac.uk/~history/Mathematicians/Copernicus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Ancient Time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120" y="1828440"/>
            <a:ext cx="40388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oldest recorded astronomical observations were from around 4,000 BC (Egypt, Central America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Picture 8" descr="pyramids"/>
          <p:cNvPicPr/>
          <p:nvPr/>
        </p:nvPicPr>
        <p:blipFill>
          <a:blip r:embed="rId1"/>
          <a:stretch/>
        </p:blipFill>
        <p:spPr>
          <a:xfrm>
            <a:off x="4952880" y="2743200"/>
            <a:ext cx="2828880" cy="173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Aristarchus of Samos 310-230 BCE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3526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ristarchus proposed a heliocentric mode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culated ratio of distances between Earth, Moon, and Su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Picture 8" descr="aristarchus_1"/>
          <p:cNvPicPr/>
          <p:nvPr/>
        </p:nvPicPr>
        <p:blipFill>
          <a:blip r:embed="rId1"/>
          <a:stretch/>
        </p:blipFill>
        <p:spPr>
          <a:xfrm>
            <a:off x="4038480" y="2190600"/>
            <a:ext cx="4838760" cy="32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2b2b2"/>
                </a:solidFill>
                <a:latin typeface="Arial"/>
              </a:rPr>
              <a:t>Eratosthenes</a:t>
            </a:r>
            <a:br>
              <a:rPr sz="4000"/>
            </a:br>
            <a:r>
              <a:rPr b="1" lang="en-US" sz="4000" spc="-1" strike="noStrike">
                <a:solidFill>
                  <a:srgbClr val="b2b2b2"/>
                </a:solidFill>
                <a:latin typeface="Arial"/>
              </a:rPr>
              <a:t>276 BCE – 194 BCE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429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ermined Earth's circumference to within 5 percent of the accepted valu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Picture 8" descr="Eratosthenes method of calculating the Earths' circumference"/>
          <p:cNvPicPr/>
          <p:nvPr/>
        </p:nvPicPr>
        <p:blipFill>
          <a:blip r:embed="rId1"/>
          <a:stretch/>
        </p:blipFill>
        <p:spPr>
          <a:xfrm>
            <a:off x="4648320" y="1617840"/>
            <a:ext cx="4216320" cy="49654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0" descr="eratosthenes"/>
          <p:cNvPicPr/>
          <p:nvPr/>
        </p:nvPicPr>
        <p:blipFill>
          <a:blip r:embed="rId2"/>
          <a:stretch/>
        </p:blipFill>
        <p:spPr>
          <a:xfrm>
            <a:off x="1981080" y="4191120"/>
            <a:ext cx="222912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audius Ptolemy d. 180 C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arth-centric system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uld accurately predict astronomical events with his mode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plained retrograde mo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Picture 8" descr="almagest_2"/>
          <p:cNvPicPr/>
          <p:nvPr/>
        </p:nvPicPr>
        <p:blipFill>
          <a:blip r:embed="rId1"/>
          <a:stretch/>
        </p:blipFill>
        <p:spPr>
          <a:xfrm>
            <a:off x="4876920" y="1523880"/>
            <a:ext cx="3886200" cy="33292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0" descr="ptolemy"/>
          <p:cNvPicPr/>
          <p:nvPr/>
        </p:nvPicPr>
        <p:blipFill>
          <a:blip r:embed="rId2"/>
          <a:stretch/>
        </p:blipFill>
        <p:spPr>
          <a:xfrm>
            <a:off x="2438280" y="3962520"/>
            <a:ext cx="2210040" cy="26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audius Ptolemy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2514600"/>
            <a:ext cx="403848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tolemy’s theories last for 1,400 years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Picture 5" descr="ptolemy"/>
          <p:cNvPicPr/>
          <p:nvPr/>
        </p:nvPicPr>
        <p:blipFill>
          <a:blip r:embed="rId1"/>
          <a:stretch/>
        </p:blipFill>
        <p:spPr>
          <a:xfrm>
            <a:off x="5257800" y="1752480"/>
            <a:ext cx="300816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Nicolaus Copernicus </a:t>
            </a:r>
            <a:br>
              <a:rPr sz="4000"/>
            </a:b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(1473 to 1543)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486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There is no one center in the universe.</a:t>
            </a:r>
            <a:br>
              <a:rPr sz="1800"/>
            </a:b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The Earth's center is not the center of the universe.</a:t>
            </a:r>
            <a:br>
              <a:rPr sz="1800"/>
            </a:b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The center of the universe is near the sun.</a:t>
            </a:r>
            <a:br>
              <a:rPr sz="1800"/>
            </a:b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The distance from the Earth to the sun is imperceptible compared with the distance to the stars.</a:t>
            </a:r>
            <a:br>
              <a:rPr sz="1800"/>
            </a:b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The rotation of the Earth accounts for the apparent daily rotation of the stars.</a:t>
            </a:r>
            <a:br>
              <a:rPr sz="1800"/>
            </a:b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The apparent annual cycle of movements of the sun is caused by the Earth revolving round it.</a:t>
            </a:r>
            <a:br>
              <a:rPr sz="1800"/>
            </a:b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The apparent retrograde motion of the planets is caused by the motion of the Earth from which one observes.</a:t>
            </a:r>
            <a:br>
              <a:rPr sz="1800"/>
            </a:b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Picture 8" descr="Copernicus_8"/>
          <p:cNvPicPr/>
          <p:nvPr/>
        </p:nvPicPr>
        <p:blipFill>
          <a:blip r:embed="rId1"/>
          <a:stretch/>
        </p:blipFill>
        <p:spPr>
          <a:xfrm>
            <a:off x="6019920" y="2057400"/>
            <a:ext cx="26668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Galileo Galilei</a:t>
            </a:r>
            <a:br>
              <a:rPr sz="4000"/>
            </a:b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(1564-1641)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ing a telescope he made, Galileo observed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ons of Jupit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hases of Venu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s findings supported a Copernican mode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 spent the end of his life under “house arrest” for his belief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Picture 8" descr="Galileo"/>
          <p:cNvPicPr/>
          <p:nvPr/>
        </p:nvPicPr>
        <p:blipFill>
          <a:blip r:embed="rId1"/>
          <a:stretch/>
        </p:blipFill>
        <p:spPr>
          <a:xfrm>
            <a:off x="5105520" y="1676520"/>
            <a:ext cx="34225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Johannes Kepler</a:t>
            </a:r>
            <a:br>
              <a:rPr sz="4000"/>
            </a:b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(1571-1630)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eply religious, Kepler thought God made the Universe according to a mathematical pla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ttempted to relate structure to nested geometric solid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7" descr="Kepler_polyhedra"/>
          <p:cNvPicPr/>
          <p:nvPr/>
        </p:nvPicPr>
        <p:blipFill>
          <a:blip r:embed="rId1"/>
          <a:stretch/>
        </p:blipFill>
        <p:spPr>
          <a:xfrm>
            <a:off x="4114800" y="1523880"/>
            <a:ext cx="3298680" cy="29718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9" descr="Kepler_7"/>
          <p:cNvPicPr/>
          <p:nvPr/>
        </p:nvPicPr>
        <p:blipFill>
          <a:blip r:embed="rId2"/>
          <a:stretch/>
        </p:blipFill>
        <p:spPr>
          <a:xfrm>
            <a:off x="6610320" y="3581280"/>
            <a:ext cx="230508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2T05:33:51Z</dcterms:created>
  <dc:creator>Tobin Hahn</dc:creator>
  <dc:description/>
  <dc:language>en-US</dc:language>
  <cp:lastModifiedBy>jluckey</cp:lastModifiedBy>
  <dcterms:modified xsi:type="dcterms:W3CDTF">2011-02-03T14:32:49Z</dcterms:modified>
  <cp:revision>21</cp:revision>
  <dc:subject/>
  <dc:title>Universal Gravitation</dc:title>
</cp:coreProperties>
</file>